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E0B4-C665-4C69-81DD-C66C52B64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C7E8-BE4A-4CE9-8956-0B4245BB0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E044-2278-4362-B21C-AEC338527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94A1-9C35-4290-AE71-DF0760E64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488AA-CBFE-4850-AD66-75A7C69FF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C0039-F3AE-42B6-BC57-5F71590DF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A2543-8E68-47E9-A094-2E4D545D2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98D4A-4ED8-4FD3-A9DF-321F331ED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4C6B8-D5CE-4FDC-8AF3-20243AB8F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15419-49F4-4836-BD71-07994E1E1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F01B8-A500-40A0-93EA-EAB3FD419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4F39-A5A5-48A5-8D33-22D8EACF6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B160C-595C-4844-B835-F53B6B483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25C3A-C42B-47C5-A047-227949BE9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C4229-5674-45B6-BF00-E427110DD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F72FF-62BE-4520-AF22-1BE0F383E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51B57-AE87-4B9E-906C-A51D1C05C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0695-BEAC-4482-9DF1-3B7CD7F18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C9A8-E05F-4D89-B5B7-9A843D1E3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F2B9-7436-40C4-BDD0-5C9DE7BC1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A174-7503-4870-84D6-1EDF0DA88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485D-4A73-4A86-85B9-EFCFC91AA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B892-FF59-4519-9367-7C089E85F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8E51-9A42-4394-BCF8-20546CBC8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DAE70-21E2-4375-8717-0DD8F13F5BC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9DEF1-2F72-4F1A-89A5-277B4309183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Supernatural" TargetMode="External"/><Relationship Id="rId2" Type="http://schemas.openxmlformats.org/officeDocument/2006/relationships/hyperlink" Target="http://en.wikipedia.org/wiki/Ghost" TargetMode="External"/><Relationship Id="rId3" Type="http://schemas.openxmlformats.org/officeDocument/2006/relationships/hyperlink" Target="http://en.wikipedia.org/wiki/Haunted_house" TargetMode="External"/><Relationship Id="rId4" Type="http://schemas.openxmlformats.org/officeDocument/2006/relationships/hyperlink" Target="http://en.wikipedia.org/wiki/Gothic_architecture" TargetMode="External"/><Relationship Id="rId5" Type="http://schemas.openxmlformats.org/officeDocument/2006/relationships/hyperlink" Target="http://en.wikipedia.org/wiki/Castle" TargetMode="External"/><Relationship Id="rId6" Type="http://schemas.openxmlformats.org/officeDocument/2006/relationships/hyperlink" Target="http://en.wikipedia.org/wiki/Darkness" TargetMode="External"/><Relationship Id="rId7" Type="http://schemas.openxmlformats.org/officeDocument/2006/relationships/hyperlink" Target="http://en.wikipedia.org/wiki/Death" TargetMode="External"/><Relationship Id="rId8" Type="http://schemas.openxmlformats.org/officeDocument/2006/relationships/hyperlink" Target="http://en.wikipedia.org/wiki/Decomposition" TargetMode="External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Exciting English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y 5-Freshm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omework assignm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le-Fortuna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dience-The other party go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mat-story following Poe’s example. (At least one pag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pic-Why you didn’t deserve what happened to yo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od sentences pract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ne let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tinue S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mework that we didn’t get to yesterd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O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United states had controlled the land around the Panama canal sense November 1903 but on December 31 1999 that control returned to Panam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r Mitchelle hole address is 209 Buena Vista Avenue Northport NE 68409 but you listed the street address as 209 Buena Vista Driv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tes:scale::__________:no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andpiper:smooth:: ____________:burnis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on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ar Monty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’m really sick and tired of your mess. It’s embarrassing to walk into our dorm and see your stuff everywhere. If you don’t clean up I am moving out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on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ar Monty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am so tired of your mess everywhere, what can we do to solve the problem. I am willing to work with you in any way you need. Let me know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Gothic Fic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minent features of Gothic fiction include terror (both psychological and physical), mystery, the </a:t>
            </a: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supernatura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ghost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3"/>
              </a:rPr>
              <a:t>haunted hous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4"/>
              </a:rPr>
              <a:t>Gothic architectur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5"/>
              </a:rPr>
              <a:t>castl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6"/>
              </a:rPr>
              <a:t>darknes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7"/>
              </a:rPr>
              <a:t>dea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8"/>
              </a:rPr>
              <a:t>deca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doubles, madness, secrets, and hereditary curs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Gothic Architectur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7" name="Picture 4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777564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ahoma"/>
              </a:rPr>
              <a:t>The Cask of Amontillado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age 58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tunato never asks why he is being killed, why do you think this i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does Montresor trick Fortunato into coming to the vault with him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 this the perfect crime? Does Montresor seem like he has closure now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o seems the most likeabl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omework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-Ro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-Audi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-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-Top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: R- ant, A- young boy, F- verbal plea, T- convincing the boy not to step on yo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5T03:24:28Z</dcterms:created>
  <dc:creator>Angie</dc:creator>
  <dc:description/>
  <dc:language>en-US</dc:language>
  <cp:lastModifiedBy>Angie McCall</cp:lastModifiedBy>
  <dcterms:modified xsi:type="dcterms:W3CDTF">2011-08-26T15:47:51Z</dcterms:modified>
  <cp:revision>3</cp:revision>
  <dc:subject/>
  <dc:title>Exciting English</dc:title>
</cp:coreProperties>
</file>